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BCA4-D49C-43DB-9624-177F32FE1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C628-6301-4435-A7D2-894E91B3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5E68-36A2-4448-B885-E12E19017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1367-9C34-4A53-B9F6-7A5031CBB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8AC2-786E-423F-A7D4-3042525B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38BA-8B37-463B-8803-B633D311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F37E-7227-452C-AE78-0BF1BA9F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353B-2EBF-456C-8C80-E0540632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6539-5637-4501-BE33-FA5B4D3C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B335-23AC-46AC-B0F2-4536B488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43E7-EC74-4145-8B33-E92C357B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A6A3-16EC-4FA1-8268-CCFE59D2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D717F-0D35-405C-8982-1EEE04725A4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NDRA:By Te'Kw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8520" y="18288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tundra is a large region with out any trees the word tundra comes from the word Tunturia which means treeless pla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90600"/>
            <a:ext cx="90676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03280" y="1812960"/>
            <a:ext cx="90676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s a reindeer's hab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390600"/>
            <a:ext cx="90676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503280" y="1812960"/>
            <a:ext cx="90676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2971800"/>
            <a:ext cx="57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ndra a place where there is no trees but much gr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 tempera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345600"/>
            <a:ext cx="906624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03280" y="1812600"/>
            <a:ext cx="906624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080" y="0"/>
            <a:ext cx="97567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s that live in this ecosyste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100807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 tundra has a lot of animals like the reindeer a mammal that's in the family along with the moose and elk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1008072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ather in The Tund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6948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undra is a very cold and spacey it has no trees at all just mostly grass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ndra Food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901520"/>
            <a:ext cx="906948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100807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345960"/>
            <a:ext cx="90676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Tundra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3280" y="1857240"/>
            <a:ext cx="90676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10080720" cy="573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345960"/>
            <a:ext cx="90676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ators and Pre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1812960"/>
            <a:ext cx="90676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reindeer preys upon grass berries and stuff like that my animals predator is like a  wolf and most of the time humans that hunt for th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229600" y="1600200"/>
            <a:ext cx="306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345960"/>
            <a:ext cx="90676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: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3280" y="1812960"/>
            <a:ext cx="90676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a reindeer 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45960"/>
            <a:ext cx="90676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904760" y="1960560"/>
            <a:ext cx="65530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ss and leav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345960"/>
            <a:ext cx="90676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03280" y="1812960"/>
            <a:ext cx="90676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DLIFE ENCYCLPED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A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3T17:04:58Z</dcterms:created>
  <dc:creator/>
  <dc:description/>
  <dc:language>en-US</dc:language>
  <cp:lastModifiedBy/>
  <dcterms:modified xsi:type="dcterms:W3CDTF">2013-04-26T21:30:12Z</dcterms:modified>
  <cp:revision>1</cp:revision>
  <dc:subject/>
  <dc:title/>
</cp:coreProperties>
</file>